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5670550" cy="7315200"/>
  <p:notesSz cx="6792913" cy="99329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91B31-0F8D-47E8-B13F-47A74C92E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2336B-2002-45ED-BFBA-E813D83269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2ED6B-AB47-4CE4-99BA-2562892149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054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3683520" y="211464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2516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054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3683520" y="4406400"/>
            <a:ext cx="155124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70B7A-27F6-4B96-825A-6C5A478142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303F8-3BFA-47A2-81F8-9DD5EB87FF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528CF-F61B-48EF-A0C1-D52EEE574B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943004-BAFF-4FDC-9A0F-A3DC18A253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6EB0E-3CAC-4451-AB44-BA5A391F50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25160" y="649080"/>
            <a:ext cx="4817880" cy="56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EA816-CB34-47C9-B397-EB5DD64A5E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14A19-F5D2-49CE-8262-30A334FF6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2894040" y="440640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87C33-A0DA-47C8-A392-8AC5D6C5C5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2516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2894040" y="2114640"/>
            <a:ext cx="235080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25160" y="4406400"/>
            <a:ext cx="4817880" cy="2092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2B1F3-C8F7-4083-83DA-690816CEFF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25160" y="649080"/>
            <a:ext cx="4817880" cy="122076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ctr">
            <a:noAutofit/>
          </a:bodyPr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25160" y="2114640"/>
            <a:ext cx="4817880" cy="438768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rmAutofit/>
          </a:bodyPr>
          <a:p>
            <a:pPr marL="277920" indent="-27792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03360" indent="-23184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2700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29852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670040" indent="-18576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2516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936440" y="6665760"/>
            <a:ext cx="179532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061880" y="6665760"/>
            <a:ext cx="1181160" cy="487440"/>
          </a:xfrm>
          <a:prstGeom prst="rect">
            <a:avLst/>
          </a:prstGeom>
          <a:noFill/>
          <a:ln w="0">
            <a:noFill/>
          </a:ln>
        </p:spPr>
        <p:txBody>
          <a:bodyPr lIns="74160" rIns="74160" tIns="37080" bIns="37080" anchor="t">
            <a:noAutofit/>
          </a:bodyPr>
          <a:lstStyle>
            <a:lvl1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  <a:defRPr b="0" lang="en-US" sz="11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741240"/>
                <a:tab algn="l" pos="1482840"/>
                <a:tab algn="l" pos="2224080"/>
                <a:tab algn="l" pos="2965320"/>
                <a:tab algn="l" pos="3706920"/>
                <a:tab algn="l" pos="4448160"/>
                <a:tab algn="l" pos="5189400"/>
                <a:tab algn="l" pos="5931000"/>
                <a:tab algn="l" pos="6672240"/>
                <a:tab algn="l" pos="7413480"/>
                <a:tab algn="l" pos="8155080"/>
                <a:tab algn="l" pos="8896320"/>
                <a:tab algn="l" pos="9637560"/>
                <a:tab algn="l" pos="10379160"/>
              </a:tabLst>
            </a:pPr>
            <a:fld id="{9D92AA34-ADBE-43A1-B018-46F8A908DD39}" type="slidenum"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565200" y="561960"/>
            <a:ext cx="1395360" cy="7221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q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565200" y="1577880"/>
            <a:ext cx="1463760" cy="7365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Or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 IOErr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217600" y="1581120"/>
            <a:ext cx="1470240" cy="731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4" name=""/>
          <p:cNvCxnSpPr>
            <a:stCxn id="41" idx="4"/>
            <a:endCxn id="42" idx="0"/>
          </p:cNvCxnSpPr>
          <p:nvPr/>
        </p:nvCxnSpPr>
        <p:spPr>
          <a:xfrm>
            <a:off x="1262880" y="1284120"/>
            <a:ext cx="34560" cy="294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5" name=""/>
          <p:cNvCxnSpPr>
            <a:stCxn id="41" idx="4"/>
            <a:endCxn id="43" idx="0"/>
          </p:cNvCxnSpPr>
          <p:nvPr/>
        </p:nvCxnSpPr>
        <p:spPr>
          <a:xfrm>
            <a:off x="1262880" y="1284120"/>
            <a:ext cx="1690200" cy="2973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46" name=""/>
          <p:cNvSpPr/>
          <p:nvPr/>
        </p:nvSpPr>
        <p:spPr>
          <a:xfrm>
            <a:off x="2286000" y="581040"/>
            <a:ext cx="1285920" cy="6858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h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197080" y="2709720"/>
            <a:ext cx="1398600" cy="6937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86040" y="2717640"/>
            <a:ext cx="1484280" cy="6778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ractio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457200" y="2590920"/>
            <a:ext cx="1641600" cy="9302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Enu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), Bool, Char, Ordering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, Float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225520" y="3860640"/>
            <a:ext cx="121788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ra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65440" y="3860640"/>
            <a:ext cx="13478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loat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836640" y="3860640"/>
            <a:ext cx="1198440" cy="6717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Integr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Inte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647800" y="4835520"/>
            <a:ext cx="1406520" cy="609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lFlo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loat, Dou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6" idx="4"/>
            <a:endCxn id="43" idx="0"/>
          </p:cNvCxnSpPr>
          <p:nvPr/>
        </p:nvCxnSpPr>
        <p:spPr>
          <a:xfrm>
            <a:off x="2928960" y="1266840"/>
            <a:ext cx="24120" cy="314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4"/>
            <a:endCxn id="47" idx="0"/>
          </p:cNvCxnSpPr>
          <p:nvPr/>
        </p:nvCxnSpPr>
        <p:spPr>
          <a:xfrm>
            <a:off x="1297080" y="2314440"/>
            <a:ext cx="1599840" cy="3956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4"/>
            <a:endCxn id="47" idx="0"/>
          </p:cNvCxnSpPr>
          <p:nvPr/>
        </p:nvCxnSpPr>
        <p:spPr>
          <a:xfrm flipH="1">
            <a:off x="2896560" y="2313000"/>
            <a:ext cx="56520" cy="397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7" idx="4"/>
            <a:endCxn id="52" idx="0"/>
          </p:cNvCxnSpPr>
          <p:nvPr/>
        </p:nvCxnSpPr>
        <p:spPr>
          <a:xfrm flipH="1">
            <a:off x="1436040" y="3403440"/>
            <a:ext cx="14608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7" idx="4"/>
            <a:endCxn id="50" idx="0"/>
          </p:cNvCxnSpPr>
          <p:nvPr/>
        </p:nvCxnSpPr>
        <p:spPr>
          <a:xfrm flipH="1">
            <a:off x="2834640" y="3403440"/>
            <a:ext cx="62280" cy="4575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4"/>
            <a:endCxn id="51" idx="0"/>
          </p:cNvCxnSpPr>
          <p:nvPr/>
        </p:nvCxnSpPr>
        <p:spPr>
          <a:xfrm flipH="1">
            <a:off x="4239360" y="3395520"/>
            <a:ext cx="18936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48" idx="4"/>
            <a:endCxn id="50" idx="0"/>
          </p:cNvCxnSpPr>
          <p:nvPr/>
        </p:nvCxnSpPr>
        <p:spPr>
          <a:xfrm flipH="1">
            <a:off x="2834640" y="3395520"/>
            <a:ext cx="1594080" cy="465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1" idx="4"/>
            <a:endCxn id="53" idx="0"/>
          </p:cNvCxnSpPr>
          <p:nvPr/>
        </p:nvCxnSpPr>
        <p:spPr>
          <a:xfrm flipH="1">
            <a:off x="3351240" y="4532400"/>
            <a:ext cx="88848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0" idx="4"/>
            <a:endCxn id="53" idx="0"/>
          </p:cNvCxnSpPr>
          <p:nvPr/>
        </p:nvCxnSpPr>
        <p:spPr>
          <a:xfrm>
            <a:off x="2834640" y="4532400"/>
            <a:ext cx="516960" cy="303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9" idx="4"/>
            <a:endCxn id="52" idx="0"/>
          </p:cNvCxnSpPr>
          <p:nvPr/>
        </p:nvCxnSpPr>
        <p:spPr>
          <a:xfrm>
            <a:off x="1278000" y="3521160"/>
            <a:ext cx="158400" cy="339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4" name=""/>
          <p:cNvSpPr/>
          <p:nvPr/>
        </p:nvSpPr>
        <p:spPr>
          <a:xfrm>
            <a:off x="3865680" y="560520"/>
            <a:ext cx="1047600" cy="72360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ll excep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(-&gt;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3886200" y="1523880"/>
            <a:ext cx="1333440" cy="8463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Bound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t, Char, Bool, 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dering, tup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35000" y="6033960"/>
            <a:ext cx="1347840" cy="66996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Mon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193920" y="6033960"/>
            <a:ext cx="1347840" cy="6685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unc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O, [], 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8" name=""/>
          <p:cNvCxnSpPr>
            <a:stCxn id="43" idx="4"/>
            <a:endCxn id="48" idx="0"/>
          </p:cNvCxnSpPr>
          <p:nvPr/>
        </p:nvCxnSpPr>
        <p:spPr>
          <a:xfrm>
            <a:off x="2952720" y="2313000"/>
            <a:ext cx="1476000" cy="405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304920" y="380880"/>
            <a:ext cx="5105160" cy="6629400"/>
          </a:xfrm>
          <a:custGeom>
            <a:avLst/>
            <a:gdLst>
              <a:gd name="textAreaLeft" fmla="*/ 249120 w 5105160"/>
              <a:gd name="textAreaRight" fmla="*/ 4856040 w 5105160"/>
              <a:gd name="textAreaTop" fmla="*/ 249120 h 6629400"/>
              <a:gd name="textAreaBottom" fmla="*/ 6380280 h 6629400"/>
            </a:gdLst>
            <a:ahLst/>
            <a:rect l="textAreaLeft" t="textAreaTop" r="textAreaRight" b="textAreaBottom"/>
            <a:pathLst>
              <a:path w="21600" h="28049">
                <a:moveTo>
                  <a:pt x="3600" y="0"/>
                </a:moveTo>
                <a:arcTo wR="3600" hR="3600" stAng="16200000" swAng="-5400000"/>
                <a:lnTo>
                  <a:pt x="0" y="24449"/>
                </a:lnTo>
                <a:arcTo wR="3600" hR="3600" stAng="10800000" swAng="-5400000"/>
                <a:lnTo>
                  <a:pt x="18000" y="2804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5:50:52Z</dcterms:created>
  <dc:creator>Simon Peyton Jones</dc:creator>
  <dc:description/>
  <dc:language>en-US</dc:language>
  <cp:lastModifiedBy>Peyton Jones</cp:lastModifiedBy>
  <dcterms:modified xsi:type="dcterms:W3CDTF">2002-04-23T07:49:50Z</dcterms:modified>
  <cp:revision>5</cp:revision>
  <dc:subject/>
  <dc:title>No Slide Title</dc:title>
</cp:coreProperties>
</file>