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584950" cy="10985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75272-91BE-461B-8E9D-5D90556A7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48902-4A1A-4659-AE32-4D1DCA2E4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691F-BD22-4EB5-BEA7-B02231C434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38536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277880" y="31752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9320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38536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277880" y="660960"/>
            <a:ext cx="18018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5249D-D50F-40AE-87CD-92EDBE8F12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0612-1F73-4362-B897-3EA50C88D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C66D3-3213-4D9B-B731-71A489221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9AAA8-3DD3-47D3-9A48-7EFAA1F107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1CFDF-B672-451C-AC19-495871E897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93200" y="98280"/>
            <a:ext cx="5596200" cy="84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FABD-29B5-4BD6-B611-9B2770791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4B6F6-458D-48D0-8CDE-CFA892673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360600" y="66096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D033D-D1F9-406A-A301-99D397153A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3200" y="51480"/>
            <a:ext cx="5596200" cy="27684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32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360600" y="317520"/>
            <a:ext cx="27306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3200" y="660960"/>
            <a:ext cx="5596200" cy="31320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77CB5-A930-448B-A8FE-CEC13879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93200" y="98280"/>
            <a:ext cx="5596200" cy="18288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ctr">
            <a:noAutofit/>
          </a:bodyPr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93200" y="317520"/>
            <a:ext cx="5596200" cy="65736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rmAutofit fontScale="41000"/>
          </a:bodyPr>
          <a:p>
            <a:pPr marL="50040" indent="-5004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1" marL="109080" indent="-4140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2" marL="168480" indent="-33480">
              <a:spcBef>
                <a:spcPts val="300"/>
              </a:spcBef>
              <a:buClr>
                <a:srgbClr val="000000"/>
              </a:buClr>
              <a:buFont typeface="Times New Roman"/>
              <a:buChar char="•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3" marL="236160" indent="-33840">
              <a:spcBef>
                <a:spcPts val="300"/>
              </a:spcBef>
              <a:buClr>
                <a:srgbClr val="000000"/>
              </a:buClr>
              <a:buFont typeface="Times New Roman"/>
              <a:buChar char="–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4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5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lvl="6" marL="303120" indent="-33120">
              <a:spcBef>
                <a:spcPts val="300"/>
              </a:spcBef>
              <a:buClr>
                <a:srgbClr val="000000"/>
              </a:buClr>
              <a:buFont typeface="Times New Roman"/>
              <a:buChar char="»"/>
              <a:tabLst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9356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247480" y="998280"/>
            <a:ext cx="208764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719600" y="998280"/>
            <a:ext cx="1370160" cy="74520"/>
          </a:xfrm>
          <a:prstGeom prst="rect">
            <a:avLst/>
          </a:prstGeom>
          <a:noFill/>
          <a:ln w="0">
            <a:noFill/>
          </a:ln>
        </p:spPr>
        <p:txBody>
          <a:bodyPr lIns="32760" rIns="32760" tIns="16560" bIns="16560" anchor="t">
            <a:noAutofit/>
          </a:bodyPr>
          <a:lstStyle>
            <a:lvl1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  <a:defRPr b="0" lang="en-US" sz="5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fld id="{B6ABA7A5-ACB5-4127-975B-8BE86C57C9BE}" type="slidenum">
              <a:rPr b="0" lang="en-US" sz="5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152280"/>
            <a:ext cx="5788080" cy="78264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32760" rIns="32760" tIns="16560" bIns="165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28680"/>
                <a:tab algn="l" pos="657360"/>
                <a:tab algn="l" pos="985680"/>
                <a:tab algn="l" pos="1314360"/>
                <a:tab algn="l" pos="1643040"/>
                <a:tab algn="l" pos="1971720"/>
                <a:tab algn="l" pos="2300400"/>
                <a:tab algn="l" pos="2629080"/>
                <a:tab algn="l" pos="2957400"/>
                <a:tab algn="l" pos="3286080"/>
                <a:tab algn="l" pos="3614760"/>
                <a:tab algn="l" pos="3943440"/>
                <a:tab algn="l" pos="4272120"/>
                <a:tab algn="l" pos="4600440"/>
                <a:tab algn="l" pos="4929120"/>
                <a:tab algn="l" pos="5257800"/>
                <a:tab algn="l" pos="5586480"/>
                <a:tab algn="l" pos="5915160"/>
                <a:tab algn="l" pos="6243480"/>
                <a:tab algn="l" pos="657216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skell 98 Librari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11-23T12:53:18Z</dcterms:created>
  <dc:creator>Simon Peyton Jones</dc:creator>
  <dc:description/>
  <dc:language>en-US</dc:language>
  <cp:lastModifiedBy>Simon Peyton Jones</cp:lastModifiedBy>
  <dcterms:modified xsi:type="dcterms:W3CDTF">1998-11-23T14:31:29Z</dcterms:modified>
  <cp:revision>3</cp:revision>
  <dc:subject/>
  <dc:title>No Slide Title</dc:title>
</cp:coreProperties>
</file>