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4208463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72E7E-EC07-4127-9045-B8CE8B98E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C0DFB-67B6-4F59-9DDE-500281B1A9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7FD03-6F7E-4F48-AB7B-1F9F81E07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52496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733840" y="31752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1608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52496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733840" y="660960"/>
            <a:ext cx="115092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87000"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08DA-C11A-4D2E-8428-EC26E11B5D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63B80-B8C0-46B6-A024-D00C0A37A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2A5C-251C-4461-9EE6-A82C22EA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CB10-8A08-4C87-8C6E-34A24F393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4A392-4912-4F2A-B7AF-9D995EB2D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16080" y="98280"/>
            <a:ext cx="35748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A57E-6DBE-4614-8E90-E43B53983C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89A6-10B5-4DC0-B182-AE4B92308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147760" y="66096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0E89-885C-490A-B2C2-4716094B7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6080" y="51480"/>
            <a:ext cx="35748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1608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147760" y="317520"/>
            <a:ext cx="1744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16080" y="660960"/>
            <a:ext cx="3574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9B89B-9412-48F1-BB7E-F2D49F72C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16080" y="98280"/>
            <a:ext cx="35748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16080" y="317520"/>
            <a:ext cx="35748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1608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436760" y="998280"/>
            <a:ext cx="13334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3014640" y="998280"/>
            <a:ext cx="8762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CC83EBC5-7B81-4C40-9830-31690819A91D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152280"/>
            <a:ext cx="396216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 Black"/>
              </a:rPr>
              <a:t>Haskell 98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3:00:28Z</dcterms:modified>
  <cp:revision>2</cp:revision>
  <dc:subject/>
  <dc:title>No Slide Title</dc:title>
</cp:coreProperties>
</file>