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63210"/>
        <c:axId val="39324546"/>
      </c:barChart>
      <c:catAx>
        <c:axId val="28963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24546"/>
        <c:crosses val="autoZero"/>
        <c:auto val="1"/>
        <c:lblAlgn val="ctr"/>
        <c:lblOffset val="100"/>
        <c:noMultiLvlLbl val="0"/>
      </c:catAx>
      <c:valAx>
        <c:axId val="39324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3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C42-B8DB-41F8-9B79-BE92CFDB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A93-17B2-4289-B073-6E333E18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5DE-6EC8-4758-8B22-5092696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2AE-0A6B-4C92-BA74-75B637A8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88E-89FB-4DF4-A8D7-7B390B47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332-FE8A-40CC-8935-B25B1FE1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D79-C2FA-4353-AEAB-5D089FD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D32-C55A-4BDF-903D-AF7F0F3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303-8BF0-4081-9936-9E49101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A73-208A-41B4-9B67-B4A67F2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237-A67D-40F3-AFD4-1FE5702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8A9-693B-4EE4-9B54-72439B3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6BB87-2222-47F3-924B-C8242369B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