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23153"/>
        <c:axId val="93191115"/>
      </c:barChart>
      <c:catAx>
        <c:axId val="33823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91115"/>
        <c:crosses val="autoZero"/>
        <c:auto val="1"/>
        <c:lblAlgn val="ctr"/>
        <c:lblOffset val="100"/>
        <c:noMultiLvlLbl val="0"/>
      </c:catAx>
      <c:valAx>
        <c:axId val="93191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23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9B6-E4B1-4AC1-A065-5849050B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35D-847D-4417-B775-28ACDBA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A6F-132F-44F1-B81E-9D0F296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4C3-5CC3-49B8-94AD-664C4FA3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69A-54B4-4914-920C-4FD9C11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8EE-7C8F-4343-9F5B-46AD095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A65-1F72-4F21-B2FF-216109A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1E4-87DC-4BF6-8FF9-E882947E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C2-D605-48CA-9D71-097888D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DFB-FA25-48FC-A062-47D9E6F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E9E-2595-47C5-BC74-17F2FA0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ABB-D977-4ABE-968B-28BCF02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1146-5829-4135-A8A6-57DE80398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