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4224551"/>
        <c:axId val="73499074"/>
      </c:barChart>
      <c:catAx>
        <c:axId val="5422455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499074"/>
        <c:crosses val="autoZero"/>
        <c:auto val="1"/>
        <c:lblAlgn val="ctr"/>
        <c:lblOffset val="100"/>
        <c:noMultiLvlLbl val="0"/>
      </c:catAx>
      <c:valAx>
        <c:axId val="7349907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22455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5269C-4D5E-41E3-8B63-434EBFFD1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3094C-2EC8-4507-9575-61FE8D09E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0DD7E-BEE6-4728-9924-B6D8DB951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EF952-1A3F-4AEF-B5A0-8D6C7DAC6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7CE16-39B9-4468-ABF9-C9B7B34C1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EE3C3-116D-4864-8E18-38EC65BD8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B140D-25F1-4CFA-B801-4D88F7015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5BA0E-DEF4-4151-AB3E-480725C9C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3111E-EDFB-4F4B-A600-68831CAA4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14B2B-A14A-48E7-AE9B-400F13F2F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5182B-E1B7-47B7-8F7F-05BD1FD74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7D26E-70A8-498C-9065-C89C56E2E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212CD2-02AF-493B-851B-48BCAE2D584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