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24383"/>
        <c:axId val="39550182"/>
      </c:barChart>
      <c:catAx>
        <c:axId val="37124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50182"/>
        <c:crosses val="autoZero"/>
        <c:auto val="1"/>
        <c:lblAlgn val="ctr"/>
        <c:lblOffset val="100"/>
        <c:noMultiLvlLbl val="0"/>
      </c:catAx>
      <c:valAx>
        <c:axId val="39550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24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DD5-9069-4022-B390-3FEF0FA0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CF5-8664-4E05-8EFD-C6F81910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A5A-C106-4ABA-AC4A-DDA7B8F0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354-D557-4ABC-BD00-BED8F544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0E7-CF30-4BD3-B1E9-39895973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BE3-8739-460A-9237-39CF089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4D7-E95A-4745-AB7A-F2C34B8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FBB-7089-4157-818B-D96F4489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AC5-0BB8-4D27-9266-0506F898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93A-BD9B-4850-BDFB-A7F73AA0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7F8-BD10-4B5D-8557-AA803022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9E5-1AB5-479A-99AE-A0B4A95B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50AE8-5102-4DA5-835E-71DE5A3076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