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14427"/>
        <c:axId val="82225987"/>
      </c:barChart>
      <c:catAx>
        <c:axId val="90214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25987"/>
        <c:crosses val="autoZero"/>
        <c:auto val="1"/>
        <c:lblAlgn val="ctr"/>
        <c:lblOffset val="100"/>
        <c:noMultiLvlLbl val="0"/>
      </c:catAx>
      <c:valAx>
        <c:axId val="82225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4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4D4-830F-4CB0-9AFC-6F22EB6D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C92-B749-4F99-AA3C-47563E9A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DC4-B05F-4D90-80DF-4B6B8103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1B6-AC11-40F5-B19D-2761C814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E0F-3532-443F-8EC3-BB22FCAC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312-6336-4B5B-A47A-96772C8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CAC-D82A-4361-9F78-31194ECC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482-2AAB-4EDF-B28F-F123330E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27-0474-457C-A645-C3E975FC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1B1-7C31-43A3-8D99-99DE10A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C20-E324-4DDF-9A64-327A35D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66A-3AD0-4FAA-A853-1BAA4B28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7F1A7-EB91-41A5-9F4E-CB1D4DD45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