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80444"/>
        <c:axId val="68022501"/>
      </c:barChart>
      <c:catAx>
        <c:axId val="42080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22501"/>
        <c:crosses val="autoZero"/>
        <c:auto val="1"/>
        <c:lblAlgn val="ctr"/>
        <c:lblOffset val="100"/>
        <c:noMultiLvlLbl val="0"/>
      </c:catAx>
      <c:valAx>
        <c:axId val="68022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0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EFB-0D5D-4488-89D3-1A0B4864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4D6-22F2-422F-B9A2-256F5CEE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3BB-8C6A-4780-9C9C-69B6790E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E7-C88E-4102-B22E-DC79A8F9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165-89EB-4673-B35E-2A6F4D4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128-250B-49AE-BEC3-8164D466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447-67E4-40E4-9258-B880EAFD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3DB-A8C6-4A8E-AA71-829C5E98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294-516F-447B-9A79-3415B0BC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58D-93C7-4FEC-86B5-2080336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680-29F7-414B-9613-E4AE90D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DC3-5E71-4FDD-9CE3-71ECA70C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E0483-8EC7-4532-A27B-45E5FF786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