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35014"/>
        <c:axId val="89685883"/>
      </c:barChart>
      <c:catAx>
        <c:axId val="52035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85883"/>
        <c:crosses val="autoZero"/>
        <c:auto val="1"/>
        <c:lblAlgn val="ctr"/>
        <c:lblOffset val="100"/>
        <c:noMultiLvlLbl val="0"/>
      </c:catAx>
      <c:valAx>
        <c:axId val="89685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35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CAA1-7EAE-4398-A92F-F118D005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1B2-D7BA-478F-A104-2E008213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1AB-0BEE-46F1-9944-AD626A01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E10-97D9-4EE9-8E87-F04CF1D8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7890-3C19-4AC0-80BD-3D14C763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5FD9-64AF-423C-A07B-80337F58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D276-B436-4346-85B1-4DCAB22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77C-02D0-4FB0-8B08-95749D65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84E-4332-4ABA-B150-A5FC087F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70D-8FBA-4917-83BE-6667AE4F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CD0-CEC3-4C97-BEC9-9A49D223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C1B-A198-4198-BB71-EF316A0C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4F569-B0AB-4A63-A8BC-E6F8C9193C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