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99ADF-7860-4964-A8CF-2A77346C1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D3193-301C-4F17-925C-109AA1958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3DF6B-58E6-45D6-9F7A-0A8942E81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8C882-540A-47D4-86EF-F2E932463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087D6-60DE-4894-82D0-AAB6EBF2C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3D250-8C4A-4C45-A227-43002CD1D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C385E-89E3-49B1-9EEE-14929353E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DC793-F1BB-4C80-9E6D-4A054AFBD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9A3B7-BAF4-41E8-8EED-7767C9435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C5FC0-7139-4A98-A6B2-AF73E225C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47BD7-F32B-45BD-9893-F79F25D07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98B36-A8BF-4CA5-B27A-126C3E4BD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A0E6E-0655-4062-A55C-C06E1E82AC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Math 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4343400" y="4114800"/>
                <a:ext cx="7714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∈</m:t>
                    </m:r>
                    <m:nary>
                      <m:naryPr>
                        <m:chr m:val="∰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1:09:10Z</dcterms:created>
  <dc:creator>Oliver Craemer</dc:creator>
  <dc:description/>
  <dc:language>en-US</dc:language>
  <cp:lastModifiedBy>Oliver Craemer</cp:lastModifiedBy>
  <dcterms:modified xsi:type="dcterms:W3CDTF">2005-01-06T11:09:21Z</dcterms:modified>
  <cp:revision>1</cp:revision>
  <dc:subject/>
  <dc:title>Math OLE</dc:title>
</cp:coreProperties>
</file>