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E11-CE34-40C7-AD44-579C45D2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07B-15F1-41CC-9571-78980FA0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03BEC-DA24-439B-8448-73A1B27F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86E31-6B73-435D-9D11-96E89A2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95040-B83F-42BB-9749-689F70E9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46E71-0219-490C-AC1F-D04EF65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65370-11F8-4D28-A2C1-1FF7A29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494C7-19CB-41DC-871D-132A465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AF58F-EAE3-4982-8FF6-CAE6403D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14DA6-DB4D-4E5F-8386-3FA50477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D328-4243-44CB-876F-7388F2D3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B1EDD-59B1-49E4-951D-651B73DD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812-7AA8-4B50-99B4-4BD9EDE9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C886E-C66D-41F2-841D-0A1E0EE6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22B00-92B3-477F-9758-07C6079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33ED50-BD4B-4164-A35F-51A9C54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EF3C1-F42F-4886-8F4F-9ED56CF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02E60A-660F-4490-B83D-FBB5143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64B1F4-D0FC-4EE2-821B-0C026D2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B43BF-C12C-4604-8D73-CC69C624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5F8C6B-002F-45B6-8F1E-71834E8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934957-93AF-480A-B5B9-DA18D35C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F2933A-EBDD-4C2B-B2E1-A2E4A772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2AC-0071-4CAC-9505-09E0499F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89DFE-8BB1-43F7-A0D5-2A1922C9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39058-378B-42D2-AA36-93268BEC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C4926-FFE3-45EC-9CDB-67154B35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D9F66-A844-42C2-8321-07656C9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29E73-2837-4B4B-ABE6-3E3D7321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B776A-6CD4-4DFC-94A8-DA54FEB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FB92E-8D7E-4753-A34F-1FD77794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4C341-8517-4930-BC76-D8516ADA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FF1D5-99B3-4953-88DD-F83A8E3E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79204-C299-47B3-9DB0-A94A199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7FE-92E2-424C-9402-2C5DDBF8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29C78-AADE-4CE2-B42A-1CDE1F48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4C168-6050-4189-8B78-3B27F860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68002-139E-441C-A9B6-2510A9CD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ED811-CC28-45A4-941F-C78C34F0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5958B-7988-4ACF-8D19-9226843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ABE9-1BA2-4BB6-A405-DED1203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7C56A-4262-47DB-8A58-F6D4090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21C48-FB5C-4823-B187-542CF3FB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C3F56-A513-48CD-BA1D-876BE608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BE307-92A9-4314-A958-7C04CEA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A140-2D5C-4475-8FFB-88AE021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FB45D-5DB1-4F2A-AD34-934FA6F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1A256-2E82-49C7-B621-AF56DEEB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8D32F-72DA-4CCB-AEB4-EB06D928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33B1-3EFE-4C22-8C38-11D8A925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03931-BE29-4E61-A312-235670D0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154B-357C-44B3-85B6-3DE1A0F8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AF2D-02A6-4A8A-AA50-E7AC7644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1AA7-7B91-45C0-A209-74E55AB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B05-BA33-4973-B220-9C1E64D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CD5-A6BA-41C5-9C7F-DC28361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5B5-05D4-4E1A-BD6E-D8CE35E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36D-F748-4C69-A4B7-3DECAFA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9682-1E46-43A5-B912-1EB06AD4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728-29ED-44DF-9021-C94D0441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C874-600B-409B-9FFD-650F7C97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E6BA-BD18-4320-9F7C-82528912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ADA4-575C-43EF-8876-453E6D53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2553-0773-4F80-84F3-6729BE3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6F2C-84AD-4C85-9793-9497A35F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3051-84FB-41F5-90C3-F6E83B6F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43B5-4F44-47E6-AB86-B9DDDA97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AD1-FE31-42B2-887D-361C932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5EAD-4253-4EDE-87BF-430B7F7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2EC9-A95A-4AF5-9482-DD000C5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8D30-E3F4-4F62-96E3-CA0C5BB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6669-28C1-4323-BA95-F889E27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1E7B-823E-4ABA-8C8C-9D21702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739F-7BA0-4C97-85F9-46130D00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8279-E7EF-4C14-9D30-D80D2247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F8F4-239D-4907-A2BE-2FBD0FBD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96BCE-0C1A-4DE3-91FF-929F3C9A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4E8F-6FF1-4C46-A877-1D788DDB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46E-FDCA-4FCD-A92D-9C4C1A7E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FC30-B506-41A2-9D8B-B9CB9E0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1AC9-C5B7-4AA4-B06F-2BF02AA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7503-8BBE-4D61-B9EF-1373EF94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7D12-02A1-428E-BE5A-837D78C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EAEA-A789-4F6D-9675-56038BF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7BFE-ECF0-4C3D-9DC8-EA457953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048D-3252-4308-915A-BCFF63A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771B-91B2-4F9F-8038-B7967B7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1166-F436-41FB-86BE-A4138EE8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21F22-A30D-46CA-879C-EF86E34E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497-92D6-4645-87B9-677C9AF1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3234D-EFEA-411A-9B54-94F1268C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59C7B-CCE6-4E46-9216-3E4AD80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41B66-0772-4A74-B6BE-DB4E04BB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4C93C-9B42-48C5-AA67-82949DF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422FD-AFE2-4DF6-8F38-D5BB62F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DAB06-C91B-4607-AA5A-1977F4D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2E74E-7578-434A-83BA-C5E9B5B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054FF-9E27-434D-8420-F380815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FEA04-FB8D-4E59-AB14-E321EB3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B6A16-A9AE-4799-BDC3-FEA0A2EB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182-CEFD-47C7-AF29-64C15E4C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D61C3-6BF4-4941-BA2D-0CF7700A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8699-3279-407D-9CA6-085E065E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6476-116B-46E4-A4DF-7218E60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A69B8-80BC-4677-8A3D-D4A5BC39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AE55-AD91-47F9-B065-36F54EA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D1DF5-0F5E-4916-9965-589E5BF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4BDC3-BEA9-4AFC-A68A-86D2C2BE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B7A2-B358-493F-BCFA-23A576F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AD3D-27EB-41D6-8B4F-C761305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B725-2806-4F99-9849-656FB6F2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1FE-6036-49BF-BEAC-2702A83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A433-8FF8-4DA0-B8DB-A0E8FB52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B603-C646-4366-86C0-4C17C9B3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B7F9-1E59-4674-9E0E-AB62298D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AD619-0E9B-480A-88E4-CD89701C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0F30B-675C-484B-8CB5-F1CC965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4630-3D16-40A6-A650-620E9742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D22A-6402-4B9A-8F0F-6D418F5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0675D-457F-45D0-9A95-C3221BF4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EF6EB-1718-4B9A-A952-7EDE13F7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508D3-3108-4D2C-BF73-0BD4CEC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68D-5F96-4D11-8BC6-75997F38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7BA4-20BF-47C0-91DA-AF0F526F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A7BA0-0F2A-4BDD-A5CF-CFCD951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1835-71FF-424B-A394-1A21579C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15489-3734-408A-AF1C-D9933A05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44C10-4582-421E-AE7C-09AB6611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BDF09-B254-430F-8122-4D99895B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E7B6-E0E5-4318-872F-320E0C89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7F4D-BA2A-456F-A165-A1564E40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F2E8-94A9-4594-84D1-731FD49F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6A7B9-0CD9-4268-A56B-5BEB81AB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2B9-FF11-4618-B860-442E5EB0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FE58-1721-4965-8686-360083B1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0682-FE9D-47F3-8AFB-57E56DF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EEECF-68C7-4448-A784-AE8881B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A977-6072-4ACF-9802-539596B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89F4-FFA8-4B63-8D38-9CF76532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28256-9B9F-4088-A58D-8C07E2E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EF377-8A1B-4D7C-B843-D92F2D3F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FE841-70D1-46EE-B3D6-1BD92350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DA29D-02AE-486E-A317-6E2F3BB0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A228-815A-4825-A54F-215EA70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D7C4-F1B0-49B8-A749-584E330DFAB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F4DB-9515-4EBE-9128-6EFA53CB23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350-06A9-41F9-9CE1-3C68A70195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9C3C-80D0-482A-82F0-0254C5434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8F0-0CFD-445B-A7F0-A19576C29DB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A750-5684-44EF-ABD4-21BCF011F0D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834-467D-45CF-8835-2C885E65A1E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3BE1-8C02-4D83-B5C9-8EE402B7FA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BCF-03C6-4B39-A9BF-F88CFBEAD00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CD3-F146-4D96-9AF0-2E818BE714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AFC-4C1D-4D58-9813-DA5E14F231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286-6589-4046-A112-6DA815BD7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E2B-C1B1-4E2A-9E69-980CE8CD9D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7344-5840-4DA2-942F-085A6E6D8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A8C-0E84-4CB3-86CB-37666F6E22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7CA0-FCEB-4D3D-9702-58483C9FB0D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A16-21CE-4A58-80FF-D9C74924C87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463-301F-4A24-93E9-11CA8CB143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85D-4F05-4654-BE65-74D88CF21EF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7EEC-4C92-4B59-B473-0BA30EF0B2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293-52B6-4995-AADD-33C5AF04D36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DE8-1B43-4DB7-84F5-F90038B1EC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378-46D8-42B8-A3ED-2872AA6156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272-B39F-4FDA-8B84-0D823A52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38B-6837-49F8-BEE5-AF3B16DBB1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8A3EE-9730-41DA-AC5E-72859C0B425F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7679-5B77-4B0D-A4B8-F495A0926F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C14715B-708E-4057-98E7-AE2D35B68962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B83B-DB60-4FE3-AF0E-763B574D1362}" type="slidenum">
              <a:t>3</a:t>
            </a:fld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DDAD4-346F-411E-B817-1824FE07F58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EACF8F2-7589-4823-BC8E-A4DE5E17875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AE1B9-A381-43BE-92D6-E50064C538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BB3C932-121A-46A0-B02D-202276396740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1D940-F6B7-4AA6-AF79-660ACFD0AF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E655371-3A10-463B-BC82-AFF77787E817}" type="datetime1">
              <a:rPr lang="en-US"/>
              <a:t>07/31/26</a:t>
            </a:fld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