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24066"/>
        <c:axId val="70645410"/>
      </c:barChart>
      <c:catAx>
        <c:axId val="76224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45410"/>
        <c:crosses val="autoZero"/>
        <c:auto val="1"/>
        <c:lblAlgn val="ctr"/>
        <c:lblOffset val="100"/>
        <c:noMultiLvlLbl val="0"/>
      </c:catAx>
      <c:valAx>
        <c:axId val="70645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24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795-3C83-4642-87A2-DD6F7BC5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9F5-6BA1-4E16-99AF-2C73668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457-5869-4A6C-8EEE-B5D4A2D5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F88-663F-4BCC-B982-59B4F1AD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1B8-A3EC-40AF-9279-277EDE8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762-C550-4307-8EAE-88DA61D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313-BDA3-4CF8-B934-351E7E5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50A-C6E6-4D34-AE92-0870C5A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D84-824B-4802-9986-5A8B2F4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31A-C386-47BB-8768-F78F9F6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025-E8D7-451D-98E1-87DE031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4AA-2EE5-4BB5-94BF-50E1496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EB322-FE13-4008-A9CC-7D66ED9C6A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